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278-90EB-4ABC-A8D8-37EB8DF6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AF6-FB36-405A-8B37-22D9EE86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8CC-0F78-400F-87B4-1F939EAE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584-1AE9-495C-BDE8-C4E622A3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E26-83EB-41D6-8492-874E6D02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5F2-12E9-4826-A900-5EBCC570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92F-7E93-47D2-B7EF-27C8F35A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D45-8A62-40A3-85A1-AC5E24BC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46C-AD0E-4C30-BB91-D016E598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FB4-2B23-4179-B114-CD912559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40F-1401-40A6-9D34-561CB55D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AB7-B829-4080-860B-D71DD7B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872C-A4F8-47C3-BC72-93C9A746B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255 PPI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grammable Peripheral Interfa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rallel Port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81360" y="1752480"/>
            <a:ext cx="307044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751800" y="1946160"/>
            <a:ext cx="1325520" cy="644760"/>
            <a:chOff x="6751800" y="1946160"/>
            <a:chExt cx="1325520" cy="644760"/>
          </a:xfrm>
        </p:grpSpPr>
        <p:sp>
          <p:nvSpPr>
            <p:cNvPr id="44" name=""/>
            <p:cNvSpPr/>
            <p:nvPr/>
          </p:nvSpPr>
          <p:spPr>
            <a:xfrm>
              <a:off x="6751800" y="2514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7309080" y="2362320"/>
              <a:ext cx="2091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2664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751800" y="2819520"/>
            <a:ext cx="1325520" cy="644040"/>
            <a:chOff x="6751800" y="2819520"/>
            <a:chExt cx="1325520" cy="644040"/>
          </a:xfrm>
        </p:grpSpPr>
        <p:sp>
          <p:nvSpPr>
            <p:cNvPr id="48" name=""/>
            <p:cNvSpPr/>
            <p:nvPr/>
          </p:nvSpPr>
          <p:spPr>
            <a:xfrm>
              <a:off x="6751800" y="3387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309080" y="3235320"/>
              <a:ext cx="20916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22664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751800" y="3692520"/>
            <a:ext cx="1325520" cy="644040"/>
            <a:chOff x="6751800" y="3692520"/>
            <a:chExt cx="1325520" cy="644040"/>
          </a:xfrm>
        </p:grpSpPr>
        <p:sp>
          <p:nvSpPr>
            <p:cNvPr id="52" name=""/>
            <p:cNvSpPr/>
            <p:nvPr/>
          </p:nvSpPr>
          <p:spPr>
            <a:xfrm>
              <a:off x="6751800" y="4260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309080" y="4108320"/>
              <a:ext cx="20916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26640" y="369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751800" y="4572000"/>
            <a:ext cx="1325520" cy="644040"/>
            <a:chOff x="6751800" y="4572000"/>
            <a:chExt cx="1325520" cy="644040"/>
          </a:xfrm>
        </p:grpSpPr>
        <p:sp>
          <p:nvSpPr>
            <p:cNvPr id="56" name=""/>
            <p:cNvSpPr/>
            <p:nvPr/>
          </p:nvSpPr>
          <p:spPr>
            <a:xfrm>
              <a:off x="6751800" y="514008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309080" y="4987800"/>
              <a:ext cx="20916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26640" y="457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638680" y="228600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04812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4038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62560" y="48769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75480" y="3962520"/>
            <a:ext cx="48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64280" y="4419720"/>
            <a:ext cx="9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55840" y="2473200"/>
            <a:ext cx="1325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914560" y="2320920"/>
            <a:ext cx="2080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306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90880" y="213372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355840" y="2895480"/>
            <a:ext cx="1325520" cy="152640"/>
            <a:chOff x="2355840" y="2895480"/>
            <a:chExt cx="1325520" cy="152640"/>
          </a:xfrm>
        </p:grpSpPr>
        <p:sp>
          <p:nvSpPr>
            <p:cNvPr id="70" name=""/>
            <p:cNvSpPr/>
            <p:nvPr/>
          </p:nvSpPr>
          <p:spPr>
            <a:xfrm flipH="1">
              <a:off x="2355840" y="304812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401640" y="2895480"/>
              <a:ext cx="2790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02000" y="28954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55840" y="3504960"/>
            <a:ext cx="1325520" cy="152640"/>
            <a:chOff x="2355840" y="3504960"/>
            <a:chExt cx="1325520" cy="152640"/>
          </a:xfrm>
        </p:grpSpPr>
        <p:sp>
          <p:nvSpPr>
            <p:cNvPr id="74" name=""/>
            <p:cNvSpPr/>
            <p:nvPr/>
          </p:nvSpPr>
          <p:spPr>
            <a:xfrm flipH="1">
              <a:off x="2355840" y="3657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3401640" y="3504960"/>
              <a:ext cx="2790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02000" y="35053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822480" y="3352680"/>
            <a:ext cx="671400" cy="459720"/>
            <a:chOff x="3822480" y="3352680"/>
            <a:chExt cx="671400" cy="459720"/>
          </a:xfrm>
        </p:grpSpPr>
        <p:sp>
          <p:nvSpPr>
            <p:cNvPr id="78" name=""/>
            <p:cNvSpPr/>
            <p:nvPr/>
          </p:nvSpPr>
          <p:spPr>
            <a:xfrm>
              <a:off x="3822480" y="335268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90520" y="3352680"/>
              <a:ext cx="41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93400" y="2743200"/>
            <a:ext cx="603000" cy="459720"/>
            <a:chOff x="3893400" y="2743200"/>
            <a:chExt cx="603000" cy="459720"/>
          </a:xfrm>
        </p:grpSpPr>
        <p:sp>
          <p:nvSpPr>
            <p:cNvPr id="81" name=""/>
            <p:cNvSpPr/>
            <p:nvPr/>
          </p:nvSpPr>
          <p:spPr>
            <a:xfrm>
              <a:off x="3893400" y="27432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0360" y="2743200"/>
              <a:ext cx="41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23200" y="4572000"/>
            <a:ext cx="552600" cy="459720"/>
            <a:chOff x="3823200" y="4572000"/>
            <a:chExt cx="552600" cy="459720"/>
          </a:xfrm>
        </p:grpSpPr>
        <p:sp>
          <p:nvSpPr>
            <p:cNvPr id="84" name=""/>
            <p:cNvSpPr/>
            <p:nvPr/>
          </p:nvSpPr>
          <p:spPr>
            <a:xfrm>
              <a:off x="3823200" y="45720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90520" y="457200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355840" y="4647960"/>
            <a:ext cx="1325520" cy="152640"/>
            <a:chOff x="2355840" y="4647960"/>
            <a:chExt cx="1325520" cy="152640"/>
          </a:xfrm>
        </p:grpSpPr>
        <p:sp>
          <p:nvSpPr>
            <p:cNvPr id="87" name=""/>
            <p:cNvSpPr/>
            <p:nvPr/>
          </p:nvSpPr>
          <p:spPr>
            <a:xfrm flipH="1">
              <a:off x="2355840" y="4800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3401640" y="4647960"/>
              <a:ext cx="2790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02000" y="46483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 flipH="1">
            <a:off x="2286000" y="4038480"/>
            <a:ext cx="13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0" y="38098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86000" y="5334120"/>
            <a:ext cx="13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86000" y="5715000"/>
            <a:ext cx="13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8960" y="499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53360" y="5410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reset line is connected to all chips in the system (8088, 8255, 8253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t puts the chip in a know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ing the reset button on your computer generally activates a 555 timer circuit that outputs a high pulse for a short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set, the 8088 goes to fixed addresses (ROM chips) where boot sequence instructions are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Setu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nel#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x, WRTCH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dx,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x, STBAD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dx,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or   IN dx,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CX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aycou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:  Loop 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x, RDCH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l,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/D #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n A/D value is read, many algorithms will need to compare the analog voltage to some target analog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computers in Anderson 307, the conversion is 18 mv per 1-bit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target is the target voltage in volts, it must be converted to a target cou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Vtarget * 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target in millivol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arget by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equivalent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 use of word-wide vs. byte-wide multiply and divide is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ritical applications may need to investigate remainder to round count to nearest inte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ltage proportional to the count appears on the D/A outp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x, DAC#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cou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dx,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imes the program must make a voltage-to-count conversion (previous sli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for Thursday, October 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commented 8088 assembly language procedure that will output a “clipped” signal that follows an input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dure should operate continuously until a key is 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signal is in the range 0 - 5 vol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/D has been calibrated at 20 mv per 1-bit 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/A has been calibrated at 25 mv per 1-bit chan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vel to clip the output at is stored in variable, CLIPLEVEL, and is given in units of tenths of volts (0.1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if CLIPLEVEL = 10, then the output signal should be in the range 0 - 1 vo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ing the 8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523880"/>
            <a:ext cx="7772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 A0 = 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IN, OUT 8 bits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IN, OUT 8 bits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IN, OUT 8 bits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Register;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ite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600" y="4114800"/>
            <a:ext cx="810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rom IO.EQ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RT2A = 0224h    ;Port A externall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RT2B = 0225h    ;Port B externall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RT2C = 0226h    ;Port C externall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2  = 0227h    ;8255-5 # 2A / Status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ing the 8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752480"/>
            <a:ext cx="1447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8288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2860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114800" y="2133720"/>
            <a:ext cx="3808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981080" y="2286000"/>
            <a:ext cx="6705720" cy="4422240"/>
            <a:chOff x="1981080" y="2286000"/>
            <a:chExt cx="6705720" cy="4422240"/>
          </a:xfrm>
        </p:grpSpPr>
        <p:sp>
          <p:nvSpPr>
            <p:cNvPr id="106" name=""/>
            <p:cNvSpPr/>
            <p:nvPr/>
          </p:nvSpPr>
          <p:spPr>
            <a:xfrm>
              <a:off x="2438280" y="2590920"/>
              <a:ext cx="76212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9880" y="3352680"/>
              <a:ext cx="8384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10080" y="4267080"/>
              <a:ext cx="3276720" cy="1191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ddress and Data lines are multiplexed in the 80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22860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ddress On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0400" y="2895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ddress/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and Data B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752480"/>
            <a:ext cx="1447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8288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2860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62320" y="2133720"/>
            <a:ext cx="3808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1828800"/>
            <a:ext cx="198108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905120"/>
            <a:ext cx="2743200" cy="76176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-bit address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286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733920"/>
            <a:ext cx="2286000" cy="99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ns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42670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981080" y="342864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809880"/>
            <a:ext cx="2514600" cy="685800"/>
          </a:xfrm>
          <a:prstGeom prst="leftRightArrow">
            <a:avLst>
              <a:gd name="adj1" fmla="val 50000"/>
              <a:gd name="adj2" fmla="val 729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bit data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828800" y="2590920"/>
            <a:ext cx="4495680" cy="3431520"/>
            <a:chOff x="1828800" y="2590920"/>
            <a:chExt cx="4495680" cy="3431520"/>
          </a:xfrm>
        </p:grpSpPr>
        <p:sp>
          <p:nvSpPr>
            <p:cNvPr id="127" name=""/>
            <p:cNvSpPr/>
            <p:nvPr/>
          </p:nvSpPr>
          <p:spPr>
            <a:xfrm>
              <a:off x="1828800" y="2666880"/>
              <a:ext cx="1676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40440" y="259092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8800" y="55627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LE is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dress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tch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05740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ing the 8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514600"/>
            <a:ext cx="2590560" cy="762120"/>
          </a:xfrm>
          <a:prstGeom prst="rightArrow">
            <a:avLst>
              <a:gd name="adj1" fmla="val 50000"/>
              <a:gd name="adj2" fmla="val 849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-bit address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1828800"/>
            <a:ext cx="2133720" cy="685800"/>
          </a:xfrm>
          <a:prstGeom prst="leftRightArrow">
            <a:avLst>
              <a:gd name="adj1" fmla="val 50000"/>
              <a:gd name="adj2" fmla="val 619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bit data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62440" y="1676520"/>
            <a:ext cx="5052960" cy="4190760"/>
            <a:chOff x="3862440" y="1676520"/>
            <a:chExt cx="5052960" cy="4190760"/>
          </a:xfrm>
        </p:grpSpPr>
        <p:sp>
          <p:nvSpPr>
            <p:cNvPr id="135" name=""/>
            <p:cNvSpPr/>
            <p:nvPr/>
          </p:nvSpPr>
          <p:spPr>
            <a:xfrm>
              <a:off x="5257800" y="1676520"/>
              <a:ext cx="2332080" cy="4190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589880" y="1870200"/>
              <a:ext cx="1325520" cy="644040"/>
              <a:chOff x="7589880" y="1870200"/>
              <a:chExt cx="1325520" cy="644040"/>
            </a:xfrm>
          </p:grpSpPr>
          <p:sp>
            <p:nvSpPr>
              <p:cNvPr id="137" name=""/>
              <p:cNvSpPr/>
              <p:nvPr/>
            </p:nvSpPr>
            <p:spPr>
              <a:xfrm>
                <a:off x="7589880" y="2438280"/>
                <a:ext cx="13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8147160" y="2286000"/>
                <a:ext cx="20916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64720" y="1870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589880" y="2743200"/>
              <a:ext cx="1325520" cy="644040"/>
              <a:chOff x="7589880" y="2743200"/>
              <a:chExt cx="1325520" cy="644040"/>
            </a:xfrm>
          </p:grpSpPr>
          <p:sp>
            <p:nvSpPr>
              <p:cNvPr id="141" name=""/>
              <p:cNvSpPr/>
              <p:nvPr/>
            </p:nvSpPr>
            <p:spPr>
              <a:xfrm>
                <a:off x="7589880" y="3311280"/>
                <a:ext cx="13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8147160" y="3159000"/>
                <a:ext cx="20916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647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7589880" y="3616200"/>
              <a:ext cx="1325520" cy="644760"/>
              <a:chOff x="7589880" y="3616200"/>
              <a:chExt cx="1325520" cy="644760"/>
            </a:xfrm>
          </p:grpSpPr>
          <p:sp>
            <p:nvSpPr>
              <p:cNvPr id="145" name=""/>
              <p:cNvSpPr/>
              <p:nvPr/>
            </p:nvSpPr>
            <p:spPr>
              <a:xfrm>
                <a:off x="7589880" y="4184640"/>
                <a:ext cx="13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8147160" y="4032360"/>
                <a:ext cx="2091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64720" y="361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589880" y="4495680"/>
              <a:ext cx="1325520" cy="644760"/>
              <a:chOff x="7589880" y="4495680"/>
              <a:chExt cx="1325520" cy="644760"/>
            </a:xfrm>
          </p:grpSpPr>
          <p:sp>
            <p:nvSpPr>
              <p:cNvPr id="149" name=""/>
              <p:cNvSpPr/>
              <p:nvPr/>
            </p:nvSpPr>
            <p:spPr>
              <a:xfrm>
                <a:off x="7589880" y="5064120"/>
                <a:ext cx="13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8147160" y="4911840"/>
                <a:ext cx="2091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64720" y="4495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553080" y="2209680"/>
              <a:ext cx="10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rt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2971800"/>
              <a:ext cx="10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rt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31160" y="3962520"/>
              <a:ext cx="6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01000" y="480060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13560" y="3886200"/>
              <a:ext cx="48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8680" y="4343400"/>
              <a:ext cx="90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rt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6800" y="2057400"/>
              <a:ext cx="9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932280" y="2819160"/>
              <a:ext cx="1325520" cy="152640"/>
              <a:chOff x="3932280" y="2819160"/>
              <a:chExt cx="1325520" cy="152640"/>
            </a:xfrm>
          </p:grpSpPr>
          <p:sp>
            <p:nvSpPr>
              <p:cNvPr id="160" name=""/>
              <p:cNvSpPr/>
              <p:nvPr/>
            </p:nvSpPr>
            <p:spPr>
              <a:xfrm flipH="1">
                <a:off x="3932280" y="2971800"/>
                <a:ext cx="13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8080" y="2819160"/>
                <a:ext cx="2790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78440" y="28195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32280" y="3428640"/>
              <a:ext cx="1325520" cy="152640"/>
              <a:chOff x="3932280" y="3428640"/>
              <a:chExt cx="1325520" cy="15264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3932280" y="3581280"/>
                <a:ext cx="13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4978080" y="3428640"/>
                <a:ext cx="2790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78440" y="34290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378400" y="3276720"/>
              <a:ext cx="671400" cy="459720"/>
              <a:chOff x="5378400" y="3276720"/>
              <a:chExt cx="671400" cy="459720"/>
            </a:xfrm>
          </p:grpSpPr>
          <p:sp>
            <p:nvSpPr>
              <p:cNvPr id="168" name=""/>
              <p:cNvSpPr/>
              <p:nvPr/>
            </p:nvSpPr>
            <p:spPr>
              <a:xfrm>
                <a:off x="5378400" y="327672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46440" y="3276720"/>
                <a:ext cx="41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49320" y="2666880"/>
              <a:ext cx="603000" cy="459720"/>
              <a:chOff x="5449320" y="2666880"/>
              <a:chExt cx="603000" cy="459720"/>
            </a:xfrm>
          </p:grpSpPr>
          <p:sp>
            <p:nvSpPr>
              <p:cNvPr id="171" name=""/>
              <p:cNvSpPr/>
              <p:nvPr/>
            </p:nvSpPr>
            <p:spPr>
              <a:xfrm>
                <a:off x="5449320" y="266688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16280" y="2666880"/>
                <a:ext cx="41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379120" y="4495680"/>
              <a:ext cx="552600" cy="459720"/>
              <a:chOff x="5379120" y="4495680"/>
              <a:chExt cx="552600" cy="459720"/>
            </a:xfrm>
          </p:grpSpPr>
          <p:sp>
            <p:nvSpPr>
              <p:cNvPr id="174" name=""/>
              <p:cNvSpPr/>
              <p:nvPr/>
            </p:nvSpPr>
            <p:spPr>
              <a:xfrm>
                <a:off x="5379120" y="44956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46440" y="4495680"/>
                <a:ext cx="41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932280" y="4571640"/>
              <a:ext cx="1325520" cy="152640"/>
              <a:chOff x="3932280" y="4571640"/>
              <a:chExt cx="1325520" cy="15264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3932280" y="4724280"/>
                <a:ext cx="13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flipV="1">
                <a:off x="4978080" y="4571640"/>
                <a:ext cx="2790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78440" y="45720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H="1">
              <a:off x="3862440" y="3962520"/>
              <a:ext cx="13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64720" y="373392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862440" y="5257800"/>
              <a:ext cx="13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62440" y="5638680"/>
              <a:ext cx="13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4880" y="49179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09280" y="53341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837720" y="563868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38080" y="31237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066320" y="52578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66680" y="312372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8440" y="5527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7440" y="5181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66680" y="1219320"/>
            <a:ext cx="2819520" cy="3886200"/>
            <a:chOff x="1066680" y="1219320"/>
            <a:chExt cx="2819520" cy="3886200"/>
          </a:xfrm>
        </p:grpSpPr>
        <p:sp>
          <p:nvSpPr>
            <p:cNvPr id="193" name=""/>
            <p:cNvSpPr/>
            <p:nvPr/>
          </p:nvSpPr>
          <p:spPr>
            <a:xfrm>
              <a:off x="2286000" y="4191120"/>
              <a:ext cx="160020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799920" y="3619440"/>
              <a:ext cx="1981440" cy="990720"/>
            </a:xfrm>
            <a:custGeom>
              <a:avLst/>
              <a:gdLst>
                <a:gd name="textAreaLeft" fmla="*/ 642600 w 1981440"/>
                <a:gd name="textAreaRight" fmla="*/ 1630440 w 1981440"/>
                <a:gd name="textAreaTop" fmla="*/ 516960 h 990720"/>
                <a:gd name="textAreaBottom" fmla="*/ 81540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094"/>
                  </a:moveTo>
                  <a:lnTo>
                    <a:pt x="11268" y="15094"/>
                  </a:lnTo>
                  <a:lnTo>
                    <a:pt x="11268" y="7007"/>
                  </a:lnTo>
                  <a:lnTo>
                    <a:pt x="7442" y="7007"/>
                  </a:lnTo>
                  <a:lnTo>
                    <a:pt x="14521" y="0"/>
                  </a:lnTo>
                  <a:lnTo>
                    <a:pt x="21600" y="7007"/>
                  </a:lnTo>
                  <a:lnTo>
                    <a:pt x="17774" y="7007"/>
                  </a:lnTo>
                  <a:lnTo>
                    <a:pt x="1777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4038480"/>
              <a:ext cx="83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90920" y="1676160"/>
              <a:ext cx="0" cy="2514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143000" y="16765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6680" y="1219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O/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3880" y="1295280"/>
              <a:ext cx="304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477120" y="1143000"/>
            <a:ext cx="26668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267080"/>
            <a:ext cx="990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 to the Logic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lines A15 - 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I/0 address space i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es, and A1 and A0 are used for the chip’s address li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88’s IO/M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notes an IO instruction (IN, OU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notes a memory access instruction (i.e., M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f the logic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low value from the 15 inputs (a NAND or OR gate) to activate the Chip 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connections for A15-A2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i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the chip’s address in I/O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8088pins" descr=""/>
          <p:cNvPicPr/>
          <p:nvPr/>
        </p:nvPicPr>
        <p:blipFill>
          <a:blip r:embed="rId1"/>
          <a:stretch/>
        </p:blipFill>
        <p:spPr>
          <a:xfrm>
            <a:off x="519120" y="730080"/>
            <a:ext cx="4711680" cy="5884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13880" y="2728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88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38640" y="1089000"/>
            <a:ext cx="313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88 is a 16-bit microprocess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registers and buses are 16 bits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19120" y="3006720"/>
            <a:ext cx="8274960" cy="1755720"/>
            <a:chOff x="519120" y="3006720"/>
            <a:chExt cx="8274960" cy="1755720"/>
          </a:xfrm>
        </p:grpSpPr>
        <p:sp>
          <p:nvSpPr>
            <p:cNvPr id="209" name=""/>
            <p:cNvSpPr/>
            <p:nvPr/>
          </p:nvSpPr>
          <p:spPr>
            <a:xfrm>
              <a:off x="519120" y="3006720"/>
              <a:ext cx="133200" cy="1755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38640" y="3227400"/>
              <a:ext cx="806400" cy="158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20800" y="3046320"/>
              <a:ext cx="25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address/data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828800" y="1515960"/>
            <a:ext cx="6445800" cy="2447280"/>
            <a:chOff x="1828800" y="1515960"/>
            <a:chExt cx="6445800" cy="2447280"/>
          </a:xfrm>
        </p:grpSpPr>
        <p:sp>
          <p:nvSpPr>
            <p:cNvPr id="213" name=""/>
            <p:cNvSpPr/>
            <p:nvPr/>
          </p:nvSpPr>
          <p:spPr>
            <a:xfrm>
              <a:off x="1828800" y="1515960"/>
              <a:ext cx="133200" cy="1490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1555920"/>
              <a:ext cx="133560" cy="1054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5475240" y="3300480"/>
              <a:ext cx="133200" cy="80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19360" y="3503520"/>
              <a:ext cx="20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address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990880" y="3960720"/>
            <a:ext cx="3576600" cy="612360"/>
            <a:chOff x="2990880" y="3960720"/>
            <a:chExt cx="3576600" cy="612360"/>
          </a:xfrm>
        </p:grpSpPr>
        <p:sp>
          <p:nvSpPr>
            <p:cNvPr id="218" name=""/>
            <p:cNvSpPr/>
            <p:nvPr/>
          </p:nvSpPr>
          <p:spPr>
            <a:xfrm>
              <a:off x="2990880" y="3960720"/>
              <a:ext cx="266760" cy="166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38640" y="4113360"/>
              <a:ext cx="266760" cy="166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07080" y="411336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O/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19720" y="412740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990880" y="3046320"/>
            <a:ext cx="4403160" cy="2175840"/>
            <a:chOff x="2990880" y="3046320"/>
            <a:chExt cx="4403160" cy="2175840"/>
          </a:xfrm>
        </p:grpSpPr>
        <p:sp>
          <p:nvSpPr>
            <p:cNvPr id="223" name=""/>
            <p:cNvSpPr/>
            <p:nvPr/>
          </p:nvSpPr>
          <p:spPr>
            <a:xfrm>
              <a:off x="2990880" y="3046320"/>
              <a:ext cx="266760" cy="1810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21120" y="3722760"/>
              <a:ext cx="266760" cy="1810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38640" y="4762440"/>
              <a:ext cx="266760" cy="1810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07440" y="47624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D and W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05640" y="4762440"/>
              <a:ext cx="51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94640" y="4762440"/>
              <a:ext cx="47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inimum mode, the 8088 is the only microprocessor in the circuit.  It can assume that it has control of memory, address, and data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ximum mode, the 8088 is configured for multiple microprocessors.  The function of pins is changed to provide processor-to-processo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255 PPI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grammable Peripheral Interfa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rallel Port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81360" y="1752480"/>
            <a:ext cx="307044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51800" y="1946160"/>
            <a:ext cx="1325520" cy="644760"/>
            <a:chOff x="6751800" y="1946160"/>
            <a:chExt cx="1325520" cy="644760"/>
          </a:xfrm>
        </p:grpSpPr>
        <p:sp>
          <p:nvSpPr>
            <p:cNvPr id="234" name=""/>
            <p:cNvSpPr/>
            <p:nvPr/>
          </p:nvSpPr>
          <p:spPr>
            <a:xfrm>
              <a:off x="6751800" y="2514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309080" y="2362320"/>
              <a:ext cx="2091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2664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751800" y="2819520"/>
            <a:ext cx="1325520" cy="644040"/>
            <a:chOff x="6751800" y="2819520"/>
            <a:chExt cx="1325520" cy="644040"/>
          </a:xfrm>
        </p:grpSpPr>
        <p:sp>
          <p:nvSpPr>
            <p:cNvPr id="238" name=""/>
            <p:cNvSpPr/>
            <p:nvPr/>
          </p:nvSpPr>
          <p:spPr>
            <a:xfrm>
              <a:off x="6751800" y="3387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309080" y="3235320"/>
              <a:ext cx="20916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2664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751800" y="3692520"/>
            <a:ext cx="1325520" cy="644040"/>
            <a:chOff x="6751800" y="3692520"/>
            <a:chExt cx="1325520" cy="644040"/>
          </a:xfrm>
        </p:grpSpPr>
        <p:sp>
          <p:nvSpPr>
            <p:cNvPr id="242" name=""/>
            <p:cNvSpPr/>
            <p:nvPr/>
          </p:nvSpPr>
          <p:spPr>
            <a:xfrm>
              <a:off x="6751800" y="4260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309080" y="4108320"/>
              <a:ext cx="20916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26640" y="369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751800" y="4572000"/>
            <a:ext cx="1325520" cy="644040"/>
            <a:chOff x="6751800" y="4572000"/>
            <a:chExt cx="1325520" cy="644040"/>
          </a:xfrm>
        </p:grpSpPr>
        <p:sp>
          <p:nvSpPr>
            <p:cNvPr id="246" name=""/>
            <p:cNvSpPr/>
            <p:nvPr/>
          </p:nvSpPr>
          <p:spPr>
            <a:xfrm>
              <a:off x="6751800" y="514008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09080" y="4987800"/>
              <a:ext cx="20916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26640" y="457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638680" y="228600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04812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92720" y="4038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62560" y="48769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75480" y="3962520"/>
            <a:ext cx="48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64280" y="4419720"/>
            <a:ext cx="9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55840" y="2473200"/>
            <a:ext cx="1325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914560" y="2320920"/>
            <a:ext cx="2080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06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90880" y="213372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355840" y="2895480"/>
            <a:ext cx="1325520" cy="152640"/>
            <a:chOff x="2355840" y="2895480"/>
            <a:chExt cx="1325520" cy="152640"/>
          </a:xfrm>
        </p:grpSpPr>
        <p:sp>
          <p:nvSpPr>
            <p:cNvPr id="260" name=""/>
            <p:cNvSpPr/>
            <p:nvPr/>
          </p:nvSpPr>
          <p:spPr>
            <a:xfrm flipH="1">
              <a:off x="2355840" y="304812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3401640" y="2895480"/>
              <a:ext cx="2790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02000" y="28954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55840" y="3504960"/>
            <a:ext cx="1325520" cy="152640"/>
            <a:chOff x="2355840" y="3504960"/>
            <a:chExt cx="1325520" cy="152640"/>
          </a:xfrm>
        </p:grpSpPr>
        <p:sp>
          <p:nvSpPr>
            <p:cNvPr id="264" name=""/>
            <p:cNvSpPr/>
            <p:nvPr/>
          </p:nvSpPr>
          <p:spPr>
            <a:xfrm flipH="1">
              <a:off x="2355840" y="3657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401640" y="3504960"/>
              <a:ext cx="2790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02000" y="35053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822480" y="3352680"/>
            <a:ext cx="671400" cy="459720"/>
            <a:chOff x="3822480" y="3352680"/>
            <a:chExt cx="671400" cy="459720"/>
          </a:xfrm>
        </p:grpSpPr>
        <p:sp>
          <p:nvSpPr>
            <p:cNvPr id="268" name=""/>
            <p:cNvSpPr/>
            <p:nvPr/>
          </p:nvSpPr>
          <p:spPr>
            <a:xfrm>
              <a:off x="3822480" y="335268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90520" y="3352680"/>
              <a:ext cx="41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93400" y="2743200"/>
            <a:ext cx="603000" cy="459720"/>
            <a:chOff x="3893400" y="2743200"/>
            <a:chExt cx="603000" cy="459720"/>
          </a:xfrm>
        </p:grpSpPr>
        <p:sp>
          <p:nvSpPr>
            <p:cNvPr id="271" name=""/>
            <p:cNvSpPr/>
            <p:nvPr/>
          </p:nvSpPr>
          <p:spPr>
            <a:xfrm>
              <a:off x="3893400" y="27432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0360" y="2743200"/>
              <a:ext cx="41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23200" y="4572000"/>
            <a:ext cx="552600" cy="459720"/>
            <a:chOff x="3823200" y="4572000"/>
            <a:chExt cx="552600" cy="459720"/>
          </a:xfrm>
        </p:grpSpPr>
        <p:sp>
          <p:nvSpPr>
            <p:cNvPr id="274" name=""/>
            <p:cNvSpPr/>
            <p:nvPr/>
          </p:nvSpPr>
          <p:spPr>
            <a:xfrm>
              <a:off x="3823200" y="45720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90520" y="457200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355840" y="4647960"/>
            <a:ext cx="1325520" cy="152640"/>
            <a:chOff x="2355840" y="4647960"/>
            <a:chExt cx="1325520" cy="152640"/>
          </a:xfrm>
        </p:grpSpPr>
        <p:sp>
          <p:nvSpPr>
            <p:cNvPr id="277" name=""/>
            <p:cNvSpPr/>
            <p:nvPr/>
          </p:nvSpPr>
          <p:spPr>
            <a:xfrm flipH="1">
              <a:off x="2355840" y="480060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3401640" y="4647960"/>
              <a:ext cx="2790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02000" y="46483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>
            <a:off x="2286000" y="4038480"/>
            <a:ext cx="13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0" y="38098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286000" y="5334120"/>
            <a:ext cx="13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286000" y="5715000"/>
            <a:ext cx="13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38960" y="499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53360" y="5410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1T13:58:50Z</dcterms:created>
  <dc:creator>Dr. Mark Tew</dc:creator>
  <dc:description/>
  <dc:language>en-US</dc:language>
  <cp:lastModifiedBy>Dr. Mark Tew</cp:lastModifiedBy>
  <dcterms:modified xsi:type="dcterms:W3CDTF">1999-10-21T14:02:45Z</dcterms:modified>
  <cp:revision>57</cp:revision>
  <dc:subject/>
  <dc:title>Loop, Jmp, and Bran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olemiss.edu/~eemdt</vt:lpwstr>
  </property>
  <property fmtid="{D5CDD505-2E9C-101B-9397-08002B2CF9AE}" pid="9" name="LinkColor">
    <vt:r8>16711782</vt:r8>
  </property>
  <property fmtid="{D5CDD505-2E9C-101B-9397-08002B2CF9AE}" pid="10" name="MailAddress">
    <vt:lpwstr>eemdt@olemiss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COURSES\EE485\Courses_ELE485\Fall199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